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7528C-7722-4F96-8E4A-0F890906E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48FAA-543C-439D-807B-6DC6660CD76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FE9858-B9D5-43C2-A61C-0889D11D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6BBA3E-E4CA-4C04-B59E-9D938366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55027A-0C52-4520-8C02-C5FE67EA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13323A-6A09-4063-8DD0-067A8EE0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ACA230-D215-4607-8B5C-6BFA5659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09FE4D-E282-4FAA-A4DA-22C5023C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99EFDE-6D09-4556-98A5-6CABBECE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8B14BC-CFCC-4EE2-8BFA-567D7DB2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C7A686-F649-4C8B-9BC1-E5E9E705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4279D8-25AD-4F36-800D-8E6C01B8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8F979-2B6D-41C1-91A6-340924301A0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7D2F1E-71D8-4207-96DF-7E5D496C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71BCCD-0925-4FA9-B0A2-25F7578F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B95D93-3126-4AA3-B3A1-2F5F311F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B44A24-A067-4A47-A5AD-A50E0F2C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9E9A85-BFD8-4CB0-99F2-5860D3ED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6CD2D2-AA8E-4C1F-93CD-41808F8A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77D0F1-4ABF-461D-80C5-A7016823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B727B0-41EE-457F-B48E-1F1558F2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071146-962F-4960-9B40-9D9113CC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E71813-216A-412D-968A-C8153419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EF585-EB91-46CC-8C8D-CA833DFC758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B4DDA0-C937-4941-A4DC-94B47FD4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AA8DEC-9584-4A8D-9A56-0E5AC3EF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3F1FA4-305E-4B9B-BD09-41363B3C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579BEF-3882-419C-89CB-0F2D8182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99D370-2F57-4764-A990-9BC2F76D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131F54-887E-40C1-A895-79DBA63D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525551-A323-432B-94FD-CF177219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AAD589-CAF9-4314-AE85-FDF28A8B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C3E92D-F8DE-433D-BBC7-4BC6EEFB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046126-6388-484D-BD55-8DFA0416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03375-2AF1-4467-9021-C23CE20D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C41722-3A66-4B53-886E-FA6E865D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BF3946-C0FC-4095-98D4-007FA8A8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9EC259-2A0C-45D4-A226-2C184377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AE6A22-2F6D-4A92-8ED0-292C99F0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297C26-63AA-49BD-B0A5-43E5651C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CA436E-1817-4B31-832E-04C0FA76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E39423-584C-4D0C-8D3A-89DB6359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EE4AD7-8FA6-4AFA-84B1-1F36280D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2A01CE-BCE9-448F-ACBF-DFFEB472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F84845-8485-4883-98B8-7FCCD7D3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6FB56-D07C-4703-9AB8-316EF03C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CD38A6-297F-45EB-8C4E-76C34D80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7B6053-A1D3-4F95-99D1-BC0DF35B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F71979-EC5E-4751-9D96-49A256B5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B76851-77ED-4672-B472-3CEDF252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ED0A6B-CCF8-4DD0-9B54-68497D87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5A13F-C2F0-43C9-8C62-1F88BF70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A8452-9165-41C8-8B9A-1361BFF2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A4402-EFF3-4A5E-9797-29BFCDB1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F3A67-B1C3-4313-9089-620464AF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3DDCC-450C-46FB-AEFE-392C1AFA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D3834-60FB-42FA-8FC2-3E42279BF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519FF-55E5-4EB1-ABD2-AB55937E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C98A0-654E-40C9-8341-E55F3FC3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F8151-0098-4202-96E0-D8B1492E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DA649-B0FB-438C-8E17-014EBCA6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26AB6-12DE-4BD5-A78C-C69936C0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69574-39D0-478A-97B5-52582910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501E8-8627-45DB-AA92-68B554E7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535E4-CF0F-472E-BE9F-B6FBAC70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D6CA0-D0BF-4C19-9581-C10919B8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99348-32C5-4F40-8AE5-7286845C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D9DFA-A271-40DD-B563-BDCBEF6C06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FDF2B-4A17-4855-8391-71C51D59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3528A-8C86-4A3F-B9CF-60B7E60D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E3D661-FDE0-415E-9042-10E426AC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6594F-14FA-466E-844A-C390C5EE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BEF5B-DA62-4FB2-B901-41BBEEEC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C33F1-67E5-4F76-BD63-4B72CC3A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03EEE-42D9-4DFE-B1B2-FEF22FED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2150E7-37CC-46EE-A1B2-C27A2CC0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167847-BF8C-4331-8728-2B5ADD67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44F8F7-A89E-4674-B3F1-42778CCE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28257-336F-4C0D-ACE6-748A2A9522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0BE78-8997-4ACC-A0A1-DB9A4EBE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67E341-A478-4A6D-8BF4-4F11417D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4CB89C-2B95-4A44-A616-E5A62F70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A0F0CA-DEAA-4D86-B32A-A7A6BDDA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49BDBA-B915-4B72-AB3D-DF5F8D27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DBBD8E-44F2-45A3-8D62-4A0A4B00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804395-0DEC-483B-A2F1-BC63307B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EB7FAB-5754-443E-AA10-852DB1EF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40E91E-552E-4B9A-803D-9CD62E2E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B767D1-FB2C-4B4D-AB46-408A8A65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F62D0-7402-430F-AF78-E99970E02E5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4F223-A410-4B02-A2C4-28537822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DC2478-6DF3-4D33-89D5-513161AA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B18F64-1E84-427E-AC0F-42516F37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88C4A6-8DD1-4B46-92D8-C6A4F3EA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AB3653-711E-4907-87F4-5E2CCC2D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F7E6B-F1AA-4123-8F09-3A993344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DC79D5-B846-4501-A55B-CCD6ADB3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58E48E-5235-4325-996A-393135B5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09AA05-170A-4EA3-BD6A-EEE30A22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2CE2DF-2A98-4295-9F15-780BA52F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5FA8E-7A75-43E6-89DD-86C313E5DA1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118C6B-EAF3-45CA-98D9-A0A8908E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94A0EE-FC50-4C45-B3E2-F5E5DFF9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D1F850-0655-44E9-AA31-95A2AA16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F24B7B-28D5-424F-A345-C55C77F2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EDC587-B4DD-4255-9628-701A69D5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AFFD0A-CD2F-4A48-9253-8BAF9DD3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64CC3D-8C4F-4896-9A0A-281FEF56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ECF644-21F0-4F1A-8BC4-793530BC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399741-8AAD-42D8-94E2-1CA8B40B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4F3FF6-F21C-4DC2-8599-8CF3F93E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89A8D-3604-45B3-A641-45D3DF04C13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F3011A-8D6F-4E0F-82DB-E1F98355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7B6709-3E44-44D7-9ED7-0CD6AF2F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739D4F-5A53-4BF9-B362-F931F64C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E8C36C-88B6-4226-9047-A14F87A4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148575-5806-4630-9FDB-6EF9914E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BF0C2D-00D6-49D7-AF33-63F006B2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2A9836-23B6-4261-A651-68950E6B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BDBA66-3FF9-4123-A605-05B91639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13EB6C-4BCE-4565-9DFD-3E31DC02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A584A1-AF5D-48D0-A15F-42226B7D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7C270-DCB9-4AF9-9FEC-FA73E3D3044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B60AE1-2B4A-404C-8EA7-AA775C25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FBACB0-457F-45F3-B4C4-919045FD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EE20EA-037B-43CB-BA66-235FBB2A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B54CE8-E795-4BC1-A567-543008E1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6D5862-779D-41B6-A836-CF00CEB5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D19277-41DF-4836-AB6C-C105A78B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65CB62-DA86-48A2-A233-E861C49A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DE9694-4919-436A-BB1B-EC87C5C6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6D746A-024F-497E-AABF-A13ED613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86BAEC-09A3-4B7A-AADE-113FDE7E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F71AA-769D-4422-A5FF-0FDB12D42C2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DC2990-C14B-4AEF-B741-AA8BED67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0EBC3F-A69A-4D19-B607-5B7D6786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C994F4-DD73-400A-A49C-8A4548CC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8A6771-7690-4860-8930-6DF49DA7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104CC7-8198-4276-BC8E-81BF3BB2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1E860C-D62E-407E-ADA0-8C2573C3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76C050-EC52-4AE6-941A-41A03CAF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A6ECF1-C6BB-480D-A33B-CD11FDBF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159912-F297-4FD3-8FF6-1EBAB096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4DA256-E8A1-424D-9CA2-ADF00941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0030-0FF9-4DDB-A285-08F4962977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reeform 9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10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Right Triangle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7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0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2DD3-EA5C-4D22-9100-19D1AAB96C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1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7800-9DBC-4F41-A83D-0AD85DAB7E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4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03C9-DCBF-4AF7-8AA8-AAB449490C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ae1500"/>
              </a:gs>
              <a:gs pos="50000">
                <a:srgbClr val="f7593d"/>
              </a:gs>
              <a:gs pos="100000">
                <a:srgbClr val="ae15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8" name="Freef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9a49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6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Freef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1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7e9e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7e9e7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2777-D190-469D-B458-9D740D3386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7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05FE-1709-42F4-80ED-E319C7DB6A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8" name="Chevron 9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hevron 10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0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FE25-B893-4DA0-AA0A-1E21002C5B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3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3CD8-0CD9-4119-B494-B2A2A5EA21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6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ED80-2F00-4F3F-90C8-4A7328BE27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9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E335-2A4C-4842-9069-D1CE14422C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2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02A0-03E7-4DD7-8B24-AC5E95281E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8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BE75-DBFA-46ED-98FF-BEBA7E19FC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96464"/>
                </a:solidFill>
                <a:latin typeface="Arial"/>
              </a:rPr>
              <a:t>The Aegea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ycladic Civiliz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. 3000–11th Century B.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mpressive examples of early Bronze Age human figures in mar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emale figures more numerous than ma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urpose is unknown, but most were found in gra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posed mainly of geometric sec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BDCD-AA96-4DF4-8167-53D0EE7015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noan Civiliz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. 3000–1100 B.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modern Greek island of Crete was the home of the most important Bronze Age cul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ythological home of King Minos and the story of the Minota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Palace at Knoss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nossos had been inhabited since early Neolithic tim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lace was asymmetrical and meande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struction was post-and-lint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86F9-7A5C-4D49-8796-835FC22371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noan Civiliz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. 3000–1100 B.C.)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2608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noan Fresco—pigments mixed in with plas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0320" indent="-22608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ditional details painted over th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uon fres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2608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0320" indent="-22608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ttle is known about Minoan religious belief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0320" indent="-22608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curring religious motifs: Bulls, double axes, trees, columns, outdoor shrines, and goddesses holding snak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2608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noan Scrip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0320" indent="-22608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near A—developed about 2000 B.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0320" indent="-22608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near B—used mainly for inventory lists and recor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14160" indent="-22608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tte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0320" indent="-22608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ergetic designs and organic for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D8CE-CBAC-4F97-A76E-FF428068EA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coveries at The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ffluent ancient trading city with interior baths and toile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ried by a volcanic eruption 1700–1500 B.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Fresco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orned both public spaces and private residen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vide clues about life and culture in ancient The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hip Fresc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Boxing Childr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Crocus Gather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0A4C-0441-4915-889F-50047236EB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ycenaean Civiliz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. 1600–1100 B.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rchaeologist Heinrich Schliemann sought to prove certain Greek myths were based on historical ev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covered and excavated both Troy in modern-day Turkey and Mycenae in the Peloponnese, based on tales from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he Iliad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 several plays about Agamemnon’s fami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326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idence of Minoan and Mycenaean conta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ycenaean frescos similar to Minoan fresc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inoan-style columns used on the Lion G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349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gold cup is Mycenaean in execution but with iconography that is Mino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2"/>
          <p:cNvSpPr/>
          <p:nvPr/>
        </p:nvSpPr>
        <p:spPr>
          <a:xfrm>
            <a:off x="4379760" y="6408720"/>
            <a:ext cx="423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2011,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3179-0B12-4DEF-B123-F2BAF50E78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8T17:56:54Z</dcterms:created>
  <dc:creator>bekbek</dc:creator>
  <dc:description/>
  <dc:language>en-US</dc:language>
  <cp:lastModifiedBy>krishna.prasad</cp:lastModifiedBy>
  <dcterms:modified xsi:type="dcterms:W3CDTF">2010-10-19T07:04:11Z</dcterms:modified>
  <cp:revision>23</cp:revision>
  <dc:subject/>
  <dc:title>Chapter 1</dc:title>
</cp:coreProperties>
</file>